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751-6D31-4621-A705-88708156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501-DED5-4ECE-9ADE-FE6C7CB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743-22D6-4CE9-AF75-A5BAAAF5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B3-0294-4A06-AB4E-468E78D1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8AF-DE0A-4B58-AD6E-F83E1D6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C08-2F4A-49D9-AA26-A77B16C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301-2D43-4D66-8C19-761DE216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322-A3AB-4A4B-A9BA-A760112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180-41FE-4165-A6F3-E1CB494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FC9-AA11-49E0-B6E6-232DC001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4BF-C007-4411-B27F-4D5436D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A57-F130-4F58-A683-210D919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7902-55E0-4C66-89D1-BDFB72AD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11:24Z</dcterms:created>
  <dc:creator>Grupo Editorial</dc:creator>
  <dc:description/>
  <dc:language>en-US</dc:language>
  <cp:lastModifiedBy>Grupo Editorial</cp:lastModifiedBy>
  <dcterms:modified xsi:type="dcterms:W3CDTF">2001-11-20T16:15:25Z</dcterms:modified>
  <cp:revision>1</cp:revision>
  <dc:subject/>
  <dc:title>Sin título de diapositiva</dc:title>
</cp:coreProperties>
</file>